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34E1-6611-49A0-9A9A-C0E8AFFC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32F-F4A7-4391-A910-C3B64B4F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A944-B449-458A-A6C4-05614392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6190-C8F5-4ED4-B11C-4DCAA5D0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ABC2-1BF5-4F7A-951E-8303E92F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ECFD-D042-4D56-A9DF-CC9A192C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D26F-6A1C-4C88-81BD-4A98863C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A6E7-E6FC-481E-AC9F-795E1BC8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F877-3D17-4064-AA72-A50089DF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12BE-9739-4093-951E-D0D4E5F6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7CB8-866F-4ED8-978E-78B2BD21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3600-F839-41B7-8B08-A5408406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42C9-06BD-4B5B-852A-0DFDFBE1C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cide in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C (International Criminal Cour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tribunal to prosecute individuals for crimes of genocide, crimes against humanity, war crimes and crimes of ag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mes of Genoc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intent to destroy, in whole or in part, a national, ethnical, racial or religious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mes against human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urder; extermination; torture; rape; political, racial, or religious pers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ar cri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urder of civilians; ill-treatment or deportation of civilian residents of an occupied territory to slave labor camps; murder or ill-treatment of prisoners of war, killing of prisoners; destruction of cities, towns, and vil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mes of Aggression (201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vasion or attack by the armed forces of a State into the territory of another Sta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mbardment or the use of any weapons by a State against the territory of another Sta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ockade of ports or coasts of a state by the armed forces of another Sta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tion of a State in allowing its territory to be used by another State for perpetrating an act of aggression against a third Sta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armed bands or mercenaries which carry out acts of armed force against another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wanda: 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approximately 100 days, 500,000 people killed (April – Ju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mination of competition between Hutu (majority) and Tutsi (minority)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of decades of tension and effects of colonialism by Bel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tu Power ide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ed that the Tutsi intended to enslave the Hu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resisted at all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he radio to incite and mobilize the population into ki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he Tutsi to cock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s://encrypted-tbn1.gstatic.com/images?q=tbn:ANd9GcQ4OsW5IEM6ndQq0TPFvCji5k1_pSpkpVunCXtai-5WccirQUgrDA"/>
          <p:cNvPicPr/>
          <p:nvPr/>
        </p:nvPicPr>
        <p:blipFill>
          <a:blip r:embed="rId1"/>
          <a:stretch/>
        </p:blipFill>
        <p:spPr>
          <a:xfrm>
            <a:off x="2362320" y="223920"/>
            <a:ext cx="426708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s://encrypted-tbn2.gstatic.com/images?q=tbn:ANd9GcSkNZ8t28ECEMNsVnkXiHckGXeaCulY2N5KKDvnFUeza1raECIehw"/>
          <p:cNvPicPr/>
          <p:nvPr/>
        </p:nvPicPr>
        <p:blipFill>
          <a:blip r:embed="rId1"/>
          <a:stretch/>
        </p:blipFill>
        <p:spPr>
          <a:xfrm>
            <a:off x="762120" y="228600"/>
            <a:ext cx="784836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s://encrypted-tbn3.gstatic.com/images?q=tbn:ANd9GcQc3Qw5ZjNr2zqmzmjhdssr9CHrDeOKdeL-WTr9aBn0oHk9UzCW"/>
          <p:cNvPicPr/>
          <p:nvPr/>
        </p:nvPicPr>
        <p:blipFill>
          <a:blip r:embed="rId1"/>
          <a:stretch/>
        </p:blipFill>
        <p:spPr>
          <a:xfrm>
            <a:off x="2133720" y="214200"/>
            <a:ext cx="4513320" cy="64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SUDAN-W2"/>
          <p:cNvPicPr/>
          <p:nvPr/>
        </p:nvPicPr>
        <p:blipFill>
          <a:blip r:embed="rId1"/>
          <a:stretch/>
        </p:blipFill>
        <p:spPr>
          <a:xfrm>
            <a:off x="2057400" y="228600"/>
            <a:ext cx="5168880" cy="64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happening in the Sud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ghting started in early 200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Africans from Darfur rebelled against the country’s Arab Muslim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ed infrastructure improvements, oil revenues, and a standing in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’t responded by sending in forces to stop the rebell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jaweed militia were paid to fight the reb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jaweed burned villages and raped and killed people in Darf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2 million people fled their homes in Darfur to live in refugee camps along the border with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y and iso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for aid workers to get t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Darfur_refugee_camp_in_Chad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primary rebel groups in Darf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dan Liberation Ar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Justice and Equality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groups consist of black Africans who oppose their treatment under the Arab Muslim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’t denies the claims that it uses its military to target its own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&amp; US imposed economic sa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ident Bush declared the violence there “genocid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danese gov’t have resisted efforts to stabilize the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eacekeeping force of 26,000 African Union and UN troops moved into Su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’t dictated the terms of the peacekeeping force in Su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Janjaweed1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ANd9GcTtFg_o8gM2roJATePrswasNP2-4O8i7voa7lB07kihkw4Th22K"/>
          <p:cNvPicPr/>
          <p:nvPr/>
        </p:nvPicPr>
        <p:blipFill>
          <a:blip r:embed="rId1"/>
          <a:stretch/>
        </p:blipFill>
        <p:spPr>
          <a:xfrm>
            <a:off x="1295280" y="1143000"/>
            <a:ext cx="647712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is genocid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enocide Convention Article 2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present convention, genocide means any of the following acts committed with intent to destroy, in whole or in part, a national, ethnical, racial or religious group, such as: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 Killing members of the group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 Causing serious bodily or mental harm to members of the group;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) Deliberately inflicting on the group conditions of life calculated to bring about its physical destruction in whole or in par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) Imposing measures intended to prevent births within the group;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) Forcibly transferring children of the group to another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es to the genocide convention are obligated, under the terms of the convention, to prevent genocide when proof is presented, i.e. to mount a humanitarian intervention. This can include the taking of military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fur: 10 Years L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600 non-Arab villages bu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300,000 de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3 million displa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anti-genocide movement exposed the genocide’s survivors, which forced the Khartoum regime to allow a U.N. peacekeeping force and humanitarian assistance into Darf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still going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an’s President Omar al Bashir indicted by ICC for crimes of genocide, crimes against humanity, and war cr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 of Sudan has not surrendered him to the I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03:58:15Z</dcterms:created>
  <dc:creator>Lauren Amorin</dc:creator>
  <dc:description/>
  <dc:language>en-US</dc:language>
  <cp:lastModifiedBy>Administrator</cp:lastModifiedBy>
  <dcterms:modified xsi:type="dcterms:W3CDTF">2013-03-25T11:40:23Z</dcterms:modified>
  <cp:revision>8</cp:revision>
  <dc:subject/>
  <dc:title>Darfur Genocide</dc:title>
</cp:coreProperties>
</file>